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DA22-CF8A-4152-B3FC-19B0666521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1 – 2 hou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00BB-E20C-48C9-8553-64FC23E41A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divide class into 2 groups to list reasons for a or b. Then discuss in pairs: a and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5A99-A3A5-4758-936D-3A4E9407B4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dictate the true-false sentences first, then learners could look at the slide to check. Then they discuss whether they are true or fa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FF32-77B1-4942-944D-29C8F715DA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 – F(1.2 billion)  2-T  3-F(training)  4-F(60%)  5-T  6-F(opposite: 8X more likely for women)  7-T  8-F(16 million)  9-T  10-F(pregnancy and childbir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FB33-94D6-4777-88D0-DF487CEE47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print out both texts and give one to each half of the class and do this as a jigsaw-reading – or all students could read both 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01D4-BF7A-4A6A-A332-A55A0492D9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61C-AA33-42E3-ABA5-A42AA286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664-69A3-4F7C-B632-4A9C284F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ECB9-A56F-437E-A5B9-E0997F95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0C0-64E3-4A7A-BEAC-9E8C4BEE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8050-0C07-4EA3-9523-27F99F7C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08F-6D2C-4CD7-90E7-08295F38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F59B-3078-4A9D-90E3-C4F93377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CCBF-9820-4ED2-8C53-3E396AF7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122-BC30-4D1D-BD56-6B9136BB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E301-1427-43C3-8670-63C75F2D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7AA9-60EF-4F6F-9ED1-4B627D92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DEF-B720-4BDC-85EE-7D59D629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2C31-1E90-4EC3-A53E-E328063B8BF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wint.org/features/2012/10/01/n456_infographic.j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Young_people_becoming_more_important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7030a0"/>
                </a:solidFill>
                <a:latin typeface="Calibri"/>
              </a:rPr>
              <a:t>Youth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Ready Upper-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new internationalist logo black on white.jpg"/>
          <p:cNvPicPr/>
          <p:nvPr/>
        </p:nvPicPr>
        <p:blipFill>
          <a:blip r:embed="rId1"/>
          <a:stretch/>
        </p:blipFill>
        <p:spPr>
          <a:xfrm>
            <a:off x="755640" y="22320"/>
            <a:ext cx="81154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Why ..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) is it good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) is it difficult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youth1.jpg"/>
          <p:cNvPicPr/>
          <p:nvPr/>
        </p:nvPicPr>
        <p:blipFill>
          <a:blip r:embed="rId1"/>
          <a:stretch/>
        </p:blipFill>
        <p:spPr>
          <a:xfrm>
            <a:off x="2995560" y="5013360"/>
            <a:ext cx="2440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ue or false? Discu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are 1 billion youths in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1% of the youth labour force is unemployed in Spain in 201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NEET” stands for “Neither in Employment, Education or Travel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is 50% youth unemployment in Af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44% of 15 – 24 year olds are underweight in Ind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In Sub-Saharan Africa, young men are up to 8 x more likely than young women to be HIV positi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legal marrying age in Iran is 13 for girls and 15 for boy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 million adolescent girls become mothers every year around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youth literacy rate is 74% in Africa, and 97% in Latin Ame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biggest killer of girls aged 15 – 19 is disea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Now check the facts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wint.org/features/2012/10/01/n456_infographic.jp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young people doing to help the world chang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42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se two easier English texts to find 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Young_people_becoming_more_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Giving_up_our_ideals_is_no_longer_an_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youth2.jpg"/>
          <p:cNvPicPr/>
          <p:nvPr/>
        </p:nvPicPr>
        <p:blipFill>
          <a:blip r:embed="rId2"/>
          <a:stretch/>
        </p:blipFill>
        <p:spPr>
          <a:xfrm>
            <a:off x="6084720" y="1989000"/>
            <a:ext cx="222264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llow-up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read the original articles – they will seem much eas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young-people-mcinty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selling-out-youth-laurie-penny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youth1.jpg"/>
          <p:cNvPicPr/>
          <p:nvPr/>
        </p:nvPicPr>
        <p:blipFill>
          <a:blip r:embed="rId1"/>
          <a:stretch/>
        </p:blipFill>
        <p:spPr>
          <a:xfrm>
            <a:off x="5842080" y="4508640"/>
            <a:ext cx="31384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6:24:05Z</dcterms:created>
  <dc:creator>Mix</dc:creator>
  <dc:description/>
  <dc:language>en-US</dc:language>
  <cp:lastModifiedBy>Mix</cp:lastModifiedBy>
  <dcterms:modified xsi:type="dcterms:W3CDTF">2012-10-28T16:58:13Z</dcterms:modified>
  <cp:revision>5</cp:revision>
  <dc:subject/>
  <dc:title>Youth</dc:title>
</cp:coreProperties>
</file>